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whoosh.wav" ContentType="audio/x-wav"/>
  <Override PartName="/ppt/media/drumroll.wav" ContentType="audio/x-wav"/>
  <Override PartName="/ppt/media/type.wav" ContentType="audio/x-wav"/>
  <Override PartName="/ppt/media/chimes.wav" ContentType="audio/x-wav"/>
  <Override PartName="/ppt/media/gunshot.wav" ContentType="audio/x-wav"/>
  <Override PartName="/ppt/media/glass.wav" ContentType="audio/x-wav"/>
  <Override PartName="/ppt/media/camera.wav" ContentType="audio/x-wav"/>
  <Override PartName="/ppt/media/explode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88C-467A-4F55-A720-06F67558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58C-1E63-46C0-AB9D-664DCC1F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2A1-755B-46BD-BB7C-6A5F8470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CEA-C578-4245-9A04-68724809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853-5A54-4E64-916F-F5D905F0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443-FEA8-4B45-92C8-B4028861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FEE-6CA9-4CC3-927A-654D163A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826-CF85-41BF-83C5-8BA41B8E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D81-43FE-4FAD-B7B8-0A3199F1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3B7-278A-4436-9D9A-696DC2F6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F2E-2637-4505-9605-67C31D73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EB1-17F2-43F1-92A6-16AFF50D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9A8C-48C1-4BA3-B9D0-D6D1044B1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gunshot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gunshot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gunshot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gunshot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audio" Target="../media/gunshot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gunshot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gunshot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gunshot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gunshot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audio" Target="../media/gunshot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981000"/>
            <a:ext cx="7704000" cy="376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bolsill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ñar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round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vi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oyfri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e paso por comple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 don’t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guant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371600"/>
            <a:ext cx="784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You understoo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16002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2193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end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i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tend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is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r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4382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22096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lov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i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lov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3526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3124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im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403848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(all) didn’t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42670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9625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viv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iste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 viv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ist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257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they o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54864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5181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r +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 ier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?=</a:t>
            </a:r>
            <a:r>
              <a:rPr b="0" lang="en-GB" sz="36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br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ier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36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7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’s try and work some out!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re’s a reminder of the ending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-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“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-i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“you” s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-i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“he/she/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-im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“w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-iste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“you” pl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-ier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“the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is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inc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l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r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75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8728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r (to go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I w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is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you w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he/she/it w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imo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we w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iste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you (all) w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er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they w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hacer (to do/make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I did/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cis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you did/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z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he/she/it 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cimo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we did/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ciste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you (all) 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cier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they did/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However, most common -er/-ir verbs have irregular stems and have to be learnt by hear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8088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ener (to have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I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vis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v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he/she/i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vim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we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viste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(all)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vier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they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3048120"/>
            <a:ext cx="46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ver (to see/watch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I saw/wa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s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saw/wa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he/she/it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m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we saw/wa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ste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(all)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er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they saw/wa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4343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er (to be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I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is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he/she/it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im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we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iste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(all)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er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they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3200400"/>
            <a:ext cx="51814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estar (to be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u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I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uvis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uv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he/she/it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uvim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we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uviste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(all)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uvier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they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Preterite (Past) T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form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rst of all let’s look at verbs that end in 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-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r (to vis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r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r (to bu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gun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r (to as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scuch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r (to lis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rr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r (to cl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r (to sp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2743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ese are all shown in the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n take off the 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“ar”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 the appropriate ending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r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gun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scuch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rr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21337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1905120"/>
            <a:ext cx="48769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é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I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aste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you” 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ó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he/she/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am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w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aste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you” pl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ar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the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vis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26668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19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sita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43434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it +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isit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b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6002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371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r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a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pr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as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2096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/She as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4382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2096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gunt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gunt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liste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3526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3124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cuch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amo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scuch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03848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(all) didn’t 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2670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3962520"/>
            <a:ext cx="44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err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aste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 cerr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ast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2578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they spea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54864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5181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bl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ar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?=</a:t>
            </a:r>
            <a:r>
              <a:rPr b="0" lang="en-GB" sz="36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ar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36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w let’s look at verbs that end in 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–er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 -i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474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b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er (to drin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ten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er (to underst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lov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er (to 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er (to e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ir (to l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br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ir (to op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2708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ese are all shown in the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n we take off the 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“er/ir”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 the appropriate ending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981080"/>
            <a:ext cx="259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b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ten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lov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br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21337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1905120"/>
            <a:ext cx="48769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I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iste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you” 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ió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he/she/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im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w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iste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you” pl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ier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the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dra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74320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419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b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43434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b +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í</a:t>
            </a: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eb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75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5:03:14Z</dcterms:created>
  <dc:creator>RM</dc:creator>
  <dc:description/>
  <dc:language>en-US</dc:language>
  <cp:lastModifiedBy>Owner1</cp:lastModifiedBy>
  <dcterms:modified xsi:type="dcterms:W3CDTF">2008-09-24T15:54:11Z</dcterms:modified>
  <cp:revision>16</cp:revision>
  <dc:subject/>
  <dc:title>The Future Tense</dc:title>
</cp:coreProperties>
</file>